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C7B27-533C-4A62-B638-4541456DB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08A16-2B1D-40BE-9692-A3F73F372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3F47D-DCD1-43EE-9EA9-834164FE6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8BA48-E14F-458D-B4F7-D5BB7014F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0B0E5-A134-4B46-8F9F-6FC6AD98A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91399-6EF9-42DE-89FD-63D2A83D6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67814-0281-46AE-8F52-2B1250317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9FD48-23C2-4E7C-B173-444948D70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641EF-CE83-4605-BDE8-08FFC150F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EB05A-E15E-40E5-B56F-634C12589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EE0B3-6656-4E37-AD1E-477206FAA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A952F-9255-4BC1-A3D9-AB84EE2A0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DEBE7-E6CC-478B-8469-E90389BC6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0C519-6E10-49B7-9F91-131972960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C8399-3BDD-44F9-BEBD-33AEB158C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D6EF8-C57F-485B-BA32-BCE8355CC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8DF92-C4BC-4376-8AB3-55B01FA3E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AE4611-C151-48BF-9AC2-8C4D7E9F1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838B9D-80FC-4862-8556-57E85C18C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4493AE-E078-4F15-B0FD-5BE97498C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E9B6EE-040E-4007-98A2-48B2B72EF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ACE70F-ED24-4E7F-88A2-0F3198182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AA941-F4BF-4B7C-8701-4083E7953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184588-887C-4481-88ED-9857B4DC7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F3F983-5AFE-4453-AF31-4687CEF9A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1B4CA4-82B8-4C9D-8CD4-E73A1A59B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8CBE50-D968-4FB3-A874-8C2585026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6D526F-28CC-495E-A210-71DA6EFC8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ACAF7B-A729-49BA-8DEE-1FD4C0868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7B5717-0B99-409D-9A98-6F8AD2B0E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9F89DA-9AC0-4A3F-9E50-B3D7EA5D8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81C3B4-70EC-4520-8619-A9077672B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B86418-B242-4570-91D7-051A6459C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5FE73-B1D3-4BF6-A1B7-9DA0A949E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06D5E3-5396-4F13-B09F-90371463B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81A630-4C7B-4E99-BC81-2277D0E85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FBB9F1-1A5F-49C0-93A0-D427665EE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1F0D22-469D-439F-9B01-CD376571E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9F03B4-98B7-4D99-BB7B-ACA9DD289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A10845-7CAC-4218-9F96-DE5A782C9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4B65E4-CEAB-45BF-BD18-2DF0B2BEC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ECAA13-BA10-428D-836F-19F95B97D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BC4EC2-3305-46B6-9E66-81D4BA957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E5F472-95A4-4E29-AFFC-356EF7EA5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A2F83-56B1-4D9A-ADC9-5CC7A7321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DC1720-184B-42AA-A58D-E695792B0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E216F7-325C-47E0-8342-52A4296B1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3B1863-06D8-4FC8-B923-FBB2114A6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018BA1-66ED-41DB-84A0-48E647104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E8839D-0ADB-4E60-BC41-179D65FFD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2DE21C-1DDA-4F91-BD66-538F81E96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24E0DD-5B05-4A03-965A-1B22360AB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13BC96-48AA-43B0-A02A-CADA27A74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8B7F49-1585-48F7-B927-C97719186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FF1842-C8D2-4518-8ADD-8D59E4458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543B9-F994-4B28-BD71-78B0F01E3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A04634-4DA9-44D0-A59E-ACAE48458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88DE30-3972-42C9-8476-2CF403038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EB8D53-003B-4CB8-ADEB-EE7DA8B71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9C246E-BB79-4852-82D1-FBDA49FD7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1DEF75-A42B-4780-83F6-D297185AD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79C6DD-3D72-4521-9130-4FF4BFF3C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B47AEB-643D-4325-9128-5E742929B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3C4414-0E70-4B92-9C21-267633E51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A6A4E9-420D-49EA-966E-B95483BF5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FF03BB-CE97-4177-92B8-B9BBD7D6A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A1056-8A0C-461A-8089-83AFE9284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C78BE3-A59A-44AB-8383-295836096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A67D04-6F15-411B-BFFE-4A329402E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CA51D8-E77D-4964-BF09-984F389CA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C04C1E-7699-407B-B530-AE930A581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656810-3BB7-443F-8B07-89C62F532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EB23BA-4155-4120-968C-B12344FB1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8C8882-AC9B-4352-B8A6-8CF57E773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6EC614-EDBC-4971-85FF-D8C017C09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4DC887-EF33-45C6-89FE-43C765CF6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5C3554-0086-4E51-9B3D-9A2D988A5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20B47-6C07-45DD-8DB1-5DDBD3A79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5BDA2D-76AD-413B-984B-881C15B8E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56A798-2E8C-4F70-AAA4-F25AB09DC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507F12-ED62-44F6-A1C6-FD293825F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49DD54-EA36-4DEA-A62A-608442CA4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9B6B80-DE56-4AFC-9920-9AD057DF0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BDACA2-1812-445A-90CB-7456CA04C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CCCBF3-B222-4D4F-BFE2-1E3958F8E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FD7E16-4429-4CFC-A4C3-A29C2708F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5D3C21-36D4-41CB-9340-C685F7517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022991-A2DE-4C3E-A79B-04A5D2682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16280-BC4E-4A86-8BAD-F1F908783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AC47AC-F096-4254-B4FF-66953EAFA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8F1F10-C665-43A6-86AD-A7DAE30F8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0A4FCE-25D2-4848-8659-E52A44853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A46925-D78F-4421-8F34-B277B638F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27C4C1-4657-40A4-9144-58A151497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12A39B-032B-4D55-8547-6D154D72F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EE418C-95A0-4FD4-BB73-D855E319A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ea157a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ce116b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ea157a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e5b6f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e5b6f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e5b6f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38E5C-58B8-4E37-9D6A-E80C0BEE976C}" type="slidenum">
              <a:rPr b="0" lang="en-US" sz="1400" spc="-1" strike="noStrike">
                <a:solidFill>
                  <a:srgbClr val="4e5b6f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ea157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ea157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ea15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2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4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ea157a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ce116b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ea157a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e5b6f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e5b6f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e5b6f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88746-3F11-4A1E-AC5C-C94C7D3DC9E2}" type="slidenum">
              <a:rPr b="0" lang="en-US" sz="1400" spc="-1" strike="noStrike">
                <a:solidFill>
                  <a:srgbClr val="4e5b6f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e5b6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0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ecff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6ecff"/>
              </a:solidFill>
              <a:latin typeface="Bookman Old Styl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ea157a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ce116b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ea157a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6ecff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6ecff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6ecff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9B391-5031-4EE7-8671-AE1CF760A399}" type="slidenum">
              <a:rPr b="0" lang="en-US" sz="1400" spc="-1" strike="noStrike">
                <a:solidFill>
                  <a:srgbClr val="d6ecff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ea157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ea157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Isosceles Triangle 10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ea157a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ce116b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ea157a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e5b6f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e5b6f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e5b6f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50A6C-86E3-4EE5-A897-CD9F3866A426}" type="slidenum">
              <a:rPr b="0" lang="en-US" sz="1400" spc="-1" strike="noStrike">
                <a:solidFill>
                  <a:srgbClr val="4e5b6f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ea157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ea157a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ce116b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ea157a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e5b6f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e5b6f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e5b6f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56D6A-3292-4926-A539-9A03B4E6B2BE}" type="slidenum">
              <a:rPr b="0" lang="en-US" sz="1400" spc="-1" strike="noStrike">
                <a:solidFill>
                  <a:srgbClr val="4e5b6f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ea157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Straight Connector 11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ea157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Isosceles Triangle 12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ea157a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ce116b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ea157a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e5b6f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e5b6f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e5b6f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00EB5-6FC9-4E98-B785-050A0B05C00C}" type="slidenum">
              <a:rPr b="0" lang="en-US" sz="1400" spc="-1" strike="noStrike">
                <a:solidFill>
                  <a:srgbClr val="4e5b6f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e5b6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ea157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12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ecff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6ecff"/>
              </a:solidFill>
              <a:latin typeface="Bookman Old Style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ea157a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ce116b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ea157a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6ecff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6ecff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6ecff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7914A-FE35-4334-8521-D602C5EC0892}" type="slidenum">
              <a:rPr b="0" lang="en-US" sz="1400" spc="-1" strike="noStrike">
                <a:solidFill>
                  <a:srgbClr val="d6ecff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ea157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Straight Connector 12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ea157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ea157a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ce116b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ea157a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e5b6f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e5b6f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e5b6f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BE84F-8983-4EA2-A6C1-869EC76F9EF6}" type="slidenum">
              <a:rPr b="0" lang="en-US" sz="1400" spc="-1" strike="noStrike">
                <a:solidFill>
                  <a:srgbClr val="4e5b6f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219320" y="373356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ookman Old Style"/>
              </a:rPr>
              <a:t>POWER GRID CONTROL SYSTEM USING GSM MODEM</a:t>
            </a:r>
            <a:br>
              <a:rPr sz="4000"/>
            </a:br>
            <a:endParaRPr b="0" lang="en-US" sz="4000" spc="-1" strike="noStrike">
              <a:solidFill>
                <a:srgbClr val="4e5b6f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okman Old Style"/>
              </a:rPr>
              <a:t>Block Diagram</a:t>
            </a:r>
            <a:endParaRPr b="0" lang="en-US" sz="3600" spc="-1" strike="noStrike">
              <a:solidFill>
                <a:srgbClr val="4e5b6f"/>
              </a:solidFill>
              <a:latin typeface="Bookman Old Style"/>
            </a:endParaRPr>
          </a:p>
        </p:txBody>
      </p:sp>
      <p:pic>
        <p:nvPicPr>
          <p:cNvPr id="362" name="Picture 2" descr=""/>
          <p:cNvPicPr/>
          <p:nvPr/>
        </p:nvPicPr>
        <p:blipFill>
          <a:blip r:embed="rId1"/>
          <a:stretch/>
        </p:blipFill>
        <p:spPr>
          <a:xfrm>
            <a:off x="685800" y="1371600"/>
            <a:ext cx="77724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okman Old Style"/>
              </a:rPr>
              <a:t>Power supply</a:t>
            </a:r>
            <a:endParaRPr b="0" lang="en-US" sz="3600" spc="-1" strike="noStrike">
              <a:solidFill>
                <a:srgbClr val="4e5b6f"/>
              </a:solidFill>
              <a:latin typeface="Bookman Old Style"/>
            </a:endParaRPr>
          </a:p>
        </p:txBody>
      </p:sp>
      <p:pic>
        <p:nvPicPr>
          <p:cNvPr id="364" name="Picture 2" descr=""/>
          <p:cNvPicPr/>
          <p:nvPr/>
        </p:nvPicPr>
        <p:blipFill>
          <a:blip r:embed="rId1"/>
          <a:stretch/>
        </p:blipFill>
        <p:spPr>
          <a:xfrm>
            <a:off x="533520" y="1600200"/>
            <a:ext cx="807696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br>
              <a:rPr sz="2900"/>
            </a:br>
            <a:r>
              <a:rPr b="0" lang="en-US" sz="4000" spc="-1" strike="noStrike">
                <a:solidFill>
                  <a:srgbClr val="000000"/>
                </a:solidFill>
                <a:latin typeface="Bookman Old Style"/>
              </a:rPr>
              <a:t>Advantages:</a:t>
            </a:r>
            <a:br>
              <a:rPr sz="4000"/>
            </a:br>
            <a:endParaRPr b="0" lang="en-US" sz="40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System can be monitored and controlled from any where.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Mobile number can be changed at any time.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Grid status will not be lost in power failure condition.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 txBox="1"/>
          <p:nvPr/>
        </p:nvSpPr>
        <p:spPr>
          <a:xfrm>
            <a:off x="533520" y="914040"/>
            <a:ext cx="8153280" cy="524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Scopes for Advancements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Gill Sans MT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This system is developed for mobile reporting application only. It also can be interfaced to computer system to record and process data base.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Applications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Gill Sans MT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Process Industries, Power Grids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ookman Old Style"/>
              </a:rPr>
              <a:t>Conclusion</a:t>
            </a:r>
            <a:endParaRPr b="0" lang="en-US" sz="40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           </a:t>
            </a: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Hence by this project we can control power grid using wireless communication system i.e., Global system for mobile communications modem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533160" y="990360"/>
            <a:ext cx="7924680" cy="516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Nowadays there are various electronic equipment available for remote operation of grid control. 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However, the main disadvantage of these systems is that they can be operated only from short ranges and also less reliable. 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 txBox="1"/>
          <p:nvPr/>
        </p:nvSpPr>
        <p:spPr>
          <a:xfrm>
            <a:off x="457200" y="990360"/>
            <a:ext cx="8153280" cy="516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To overcome the above drawbacks, we are using one of the wireless communication technique i.e., GSM (Global System for Mobile communications). 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GSM is a digital cellular communications system which has rapidly gained acceptance and market share worldwide.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 txBox="1"/>
          <p:nvPr/>
        </p:nvSpPr>
        <p:spPr>
          <a:xfrm>
            <a:off x="533520" y="53316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601"/>
              </a:spcBef>
              <a:buClr>
                <a:srgbClr val="7fd13b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The development of GSM is the first step towards a true personal communication system that will allow us to communication anywhere, anytime and with anyone.  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spcBef>
                <a:spcPts val="601"/>
              </a:spcBef>
              <a:buClr>
                <a:srgbClr val="7fd13b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GSM</a:t>
            </a: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  is vastly used because of its simplicity in both transmitter and receiver design, can operate at 900 or 1800MHZ band, faster , more reliable and globally network .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spcBef>
                <a:spcPts val="601"/>
              </a:spcBef>
              <a:buClr>
                <a:srgbClr val="7fd13b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 txBox="1"/>
          <p:nvPr/>
        </p:nvSpPr>
        <p:spPr>
          <a:xfrm>
            <a:off x="533520" y="914040"/>
            <a:ext cx="8229600" cy="524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This project is designed for seven power grids. 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8051 Microcontroller is the heart of the project. 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A GSM modem is interfaced to microcontroller. 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This modem receives the messages from control mobile and sends as input to microcontroller. 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 txBox="1"/>
          <p:nvPr/>
        </p:nvSpPr>
        <p:spPr>
          <a:xfrm>
            <a:off x="380880" y="685800"/>
            <a:ext cx="8305920" cy="547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601"/>
              </a:spcBef>
              <a:buClr>
                <a:srgbClr val="7fd13b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The microcontroller verify for authentication of the number and, if the number is authorized, grid control will be taken place.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259200" indent="-259200">
              <a:spcBef>
                <a:spcPts val="601"/>
              </a:spcBef>
              <a:buClr>
                <a:srgbClr val="7fd13b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And EEPROM is interfaced to this controller to save the grid position at every instant. 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259200" indent="-259200">
              <a:spcBef>
                <a:spcPts val="601"/>
              </a:spcBef>
              <a:buClr>
                <a:srgbClr val="7fd13b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This grid position information will not be deleted even in power failure conditions. 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 txBox="1"/>
          <p:nvPr/>
        </p:nvSpPr>
        <p:spPr>
          <a:xfrm>
            <a:off x="533520" y="837720"/>
            <a:ext cx="8153280" cy="531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3X4 keypad is interfaced to change the mobile number at any time. 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16X2 LCD is interfaced to display user-required information. 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In this project TRAIC is used as load controller (as a switch), MOC3021 used as a Triac driver.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0880" y="914040"/>
            <a:ext cx="8229600" cy="524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GSM network operators have roaming facilities, user can often continue to use there mobile phones when they travel to other countries etc…. 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This project uses regulated 5v, 750mA power supply. 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 txBox="1"/>
          <p:nvPr/>
        </p:nvSpPr>
        <p:spPr>
          <a:xfrm>
            <a:off x="456840" y="914040"/>
            <a:ext cx="8001000" cy="524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7805 and 7812 three terminal voltage regulators are used for voltage regulation. 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Bridge type full wave rectifier is used to rectify the ac output of secondary of 230/12v step down transformer. 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29T05:49:06Z</dcterms:created>
  <dc:creator/>
  <dc:description>Electrical Projects</dc:description>
  <dc:language>en-US</dc:language>
  <cp:lastModifiedBy>mahesh</cp:lastModifiedBy>
  <dcterms:modified xsi:type="dcterms:W3CDTF">2008-12-29T09:15:19Z</dcterms:modified>
  <cp:revision>0</cp:revision>
  <dc:subject>Electrical Projects</dc:subject>
  <dc:title>EEE IEEE Projects</dc:title>
</cp:coreProperties>
</file>